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E26-517A-4A82-9210-1406F904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E6F-6260-4A73-AC5B-C6CB811D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BF91-8090-42D1-8748-8173F3F2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974-BE5D-454C-A448-EE8D7DAE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DDB-078C-476D-8437-929DD239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3BD-52AA-411E-A187-5193E6C0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501-5939-4539-8219-0EC9EB1E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3E5-2544-41C8-998E-581F3C01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D60-993E-4E6C-9F57-E28991A5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2C9-21CF-4B09-97A0-BE7D14CD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FF7-EABA-445F-A353-E53EFB67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F2F-9490-4F05-8932-97620ABB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9CD8-945D-47A9-87BF-34A576439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7 What’s the highest mountain in the worl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 A      Grammar Focus-4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0" y="35812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key sentences in 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ching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key knowledge in Secti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ings using compari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e previe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38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371600" y="8380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rammar Focu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702320"/>
        </p:xfrm>
        <a:graphic>
          <a:graphicData uri="http://schemas.openxmlformats.org/drawingml/2006/table">
            <a:tbl>
              <a:tblPr/>
              <a:tblGrid>
                <a:gridCol w="3747960"/>
                <a:gridCol w="448164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deep it the Caspian Se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1,025 meters dee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is the longest river in the worl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Nile is the longest river in the worl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you know that China is one of the oldest countries in the worl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, I did. It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much older than the U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the longest river in China?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Yangtze Riv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822240" y="32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960" y="457200"/>
            <a:ext cx="186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38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Oval 7"/>
          <p:cNvSpPr/>
          <p:nvPr/>
        </p:nvSpPr>
        <p:spPr>
          <a:xfrm>
            <a:off x="685800" y="990720"/>
            <a:ext cx="7621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8153640" cy="3736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1752480" y="7621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blanks with the correct forms of the words in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410080" y="1828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0040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5410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27432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495288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4038480" y="4495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08660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080" y="-54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640" y="0"/>
            <a:ext cx="186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b    Write two comparisons about two   topics.    Write true f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c  Write five questions using comparisons. Then ask your partner your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38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219320" y="1066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2514600" y="457200"/>
            <a:ext cx="426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Homework 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066680" y="236232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a survey about your favorit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 an article using comparison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iew  the new words in Section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02:07:58Z</dcterms:created>
  <dc:creator>Administrator</dc:creator>
  <dc:description/>
  <dc:language>en-US</dc:language>
  <cp:lastModifiedBy/>
  <dcterms:modified xsi:type="dcterms:W3CDTF">2015-04-06T09:16:2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  <property fmtid="{D5CDD505-2E9C-101B-9397-08002B2CF9AE}" pid="3" name="Version">
    <vt:r8>1</vt:r8>
  </property>
</Properties>
</file>